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A30C-D421-48A7-AE93-6EE026A66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E184-FCA5-407E-9BC2-6D1359917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F5B2-813A-4A7E-A89C-7AAC087BC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D453-40DA-4028-A8D3-6D007C006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33B6-E21B-4B61-AB5B-2B1B2DB79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7779-F170-4EBF-9D08-79836137C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1ED7-DDB5-49A9-A826-D3E36EB3E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10F7-9ECB-4A3D-8CDA-5291C80C8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8614-3AD0-4551-824E-60605A369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E3D0-3AC9-4370-B6FB-20C2740E2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B1C4-5928-4C73-8830-2C29754D6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6BCD-0F00-47D3-B51C-7B15A34C8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n 20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SC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BB8F7-8B03-4B94-96A5-5643BF4C1D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010280" y="5284800"/>
            <a:ext cx="2133720" cy="1573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MOD Administriv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Cain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MOD Cooridin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 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ear many ha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ct coordin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ftware develo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wri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 mon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 list adm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p desk (ie, answering support reques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 “should” be do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ct coordin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ftware develop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ation wri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hings work n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software is stand al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MOD core apps interact directly with Ch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soft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uld this be good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eal formal vetting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ally, require interoperability with Ch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schema mod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uss on gmod-schema mailing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ain, no vet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rrent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focus--genome feature vis &amp; ed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ative genomics/map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 web brow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terature cu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GMOD 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50 orgs (using core app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Chado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y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DG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cty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meciumD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GD-Princet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ture develop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installation proced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 clustering tools (including anything that needs to go into Chado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enotype and phylogeny schema mod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reach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How to attract user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ing at meet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y-in from funding ag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ling list annou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the GMOD side, having good documentation and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tracting Evolutionary Biologi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ve a GMOD meeting he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ing at what mee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schema modules and apps do we ne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9T22:26:49Z</dcterms:created>
  <dc:creator>Scott Cain</dc:creator>
  <dc:description/>
  <dc:language>en-US</dc:language>
  <cp:lastModifiedBy>Scott Cain</cp:lastModifiedBy>
  <cp:lastPrinted>1904-01-01T00:00:00Z</cp:lastPrinted>
  <dcterms:modified xsi:type="dcterms:W3CDTF">2006-01-20T13:29:33Z</dcterms:modified>
  <cp:revision>18</cp:revision>
  <dc:subject/>
  <dc:title>GMOD Administrivia</dc:title>
</cp:coreProperties>
</file>